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umroll.wav" ContentType="audio/x-wav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arrow.wav" ContentType="audio/x-wav"/>
  <Override PartName="/ppt/media/type.wav" ContentType="audio/x-wav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applause.wav" ContentType="audio/x-wav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6CF-33FC-4757-8589-D680121C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AFF0-3013-47B0-A24E-BC1DB83D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5723-D68F-4309-8D22-ECC458F2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C6EA-90D6-4786-84E8-0662487C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B51-C0C9-4599-8124-FBCD44E3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A03-2D42-4030-B75E-16409427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950A-8127-4F29-9213-6F189B53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B7D-371A-42F5-A0E8-22D9E01D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D5CC-5C45-4455-AAFA-560D2EDE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8CF1-8EAF-474C-8B6D-77DB16BB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EDA-F176-4C6D-A6A5-1ED0F745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40B-F4F0-4FDD-9B38-9F709CE9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81B2-89B5-4E9A-A622-2F19E11C9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xroads.virginia.edu/~Hyper/detoc/religion/finney.html" TargetMode="External"/><Relationship Id="rId2" Type="http://schemas.openxmlformats.org/officeDocument/2006/relationships/hyperlink" Target="http://www.oberlin.edu/external/EOG/images/CharlesGrandisonFinney.html" TargetMode="External"/><Relationship Id="rId3" Type="http://schemas.openxmlformats.org/officeDocument/2006/relationships/hyperlink" Target="http://www.online-literature.com/emerson/" TargetMode="External"/><Relationship Id="rId4" Type="http://schemas.openxmlformats.org/officeDocument/2006/relationships/hyperlink" Target="http://my.hrw.com/tabnav/controller.jsp?isbn=0030411645" TargetMode="External"/><Relationship Id="rId5" Type="http://schemas.openxmlformats.org/officeDocument/2006/relationships/hyperlink" Target="http://womenshistory.about.com/od/stantonelizabeth/a/stanton.htm" TargetMode="External"/><Relationship Id="rId6" Type="http://schemas.openxmlformats.org/officeDocument/2006/relationships/hyperlink" Target="http://my.hrw.com/tabnav/controller.jsp?isbn=0030411645" TargetMode="External"/><Relationship Id="rId7" Type="http://schemas.openxmlformats.org/officeDocument/2006/relationships/hyperlink" Target="http://www.nd.edu/~rbarger/www7/mann.html" TargetMode="External"/><Relationship Id="rId8" Type="http://schemas.openxmlformats.org/officeDocument/2006/relationships/hyperlink" Target="http://www.webster.edu/~woolflm/dorotheadix.html" TargetMode="External"/><Relationship Id="rId9" Type="http://schemas.openxmlformats.org/officeDocument/2006/relationships/hyperlink" Target="http://womenshistory.about.com/od/suffragepre1848/p/lucretia_mott.htm" TargetMode="External"/><Relationship Id="rId10" Type="http://schemas.openxmlformats.org/officeDocument/2006/relationships/audio" Target="../media/arrow.wav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ndb.com/people/966/000049819/" TargetMode="Externa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520" y="2361960"/>
            <a:ext cx="5715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itannic Bold"/>
              </a:rPr>
              <a:t>THE INDIVIDUALS OF THE REFORM E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66880" y="3809520"/>
            <a:ext cx="3733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BY HALEY DOW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PERIOD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DUE DATE: 2/22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220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600200" y="0"/>
            <a:ext cx="184140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57800" y="0"/>
            <a:ext cx="1905120" cy="2209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162920" y="0"/>
            <a:ext cx="198108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4648320"/>
            <a:ext cx="1690560" cy="2209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676520" y="4724280"/>
            <a:ext cx="1828800" cy="213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3505320" y="47242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5410080" y="4724280"/>
            <a:ext cx="187020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7238880" y="4724280"/>
            <a:ext cx="190512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7237440" y="2209680"/>
            <a:ext cx="1906560" cy="2514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0" y="220968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Elizabeth Cady Stanton "/>
          <p:cNvPicPr/>
          <p:nvPr/>
        </p:nvPicPr>
        <p:blipFill>
          <a:blip r:embed="rId12"/>
          <a:stretch/>
        </p:blipFill>
        <p:spPr>
          <a:xfrm>
            <a:off x="3429000" y="0"/>
            <a:ext cx="1828800" cy="2209680"/>
          </a:xfrm>
          <a:prstGeom prst="rect">
            <a:avLst/>
          </a:prstGeom>
          <a:ln w="0">
            <a:noFill/>
          </a:ln>
        </p:spPr>
      </p:pic>
    </p:spTree>
  </p:cSld>
  <p:transition advTm="6000">
    <p:fade/>
    <p:sndAc>
      <p:stSnd>
        <p:snd r:embed="rId1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iam McGuff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rn September 23,1800 Pennsylvania &amp; died May 418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fe story: president of Cincinnati College, Graduated from Washington College in 1826, sought to promote public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beliefs: natural &amp; moral philoso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: Common School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mplishments &amp; contributions: became president of Ohio University in 1839, In 1836 he wrote the first and seco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clectic Reade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705720" y="1752480"/>
            <a:ext cx="2280960" cy="35816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out"/>
    <p:sndAc>
      <p:stSnd>
        <p:snd r:embed="rId2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herine Bee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rn September 6, 1800 &amp; Died on May 12 ,1878 in New Y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fe story: went to a private finishing school, set up colleges for women to become teachers, created school for girls where they could learn all types of subjects (including masculine o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beliefs: physical health important in schools, god designed women to be tea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: Education Re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mplishments &amp; contribution: opened the Hartford Female Seminary in Connecticut, established many colleges to educate women to be tea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943600" y="1676520"/>
            <a:ext cx="3032280" cy="4525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hecker dir="horz"/>
    <p:sndAc>
      <p:stSnd>
        <p:snd r:embed="rId2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 Tu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rn October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800 &amp; executed November 11th 1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fe Story: family born into slavery, was taught to read, led rebe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beliefs: believed god had chosen him to free the sla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: Anti- slavery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tions &amp; accomplishments: led a rebellion of around 75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3,000 of state militia had to deal with, hundreds of innocent slaves were kille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908440" cy="3835440"/>
          </a:xfrm>
          <a:prstGeom prst="rect">
            <a:avLst/>
          </a:prstGeom>
          <a:ln w="0">
            <a:noFill/>
          </a:ln>
        </p:spPr>
      </p:pic>
    </p:spTree>
  </p:cSld>
  <p:transition advTm="8000">
    <p:checker dir="vert"/>
    <p:sndAc>
      <p:stSnd>
        <p:snd r:embed="rId2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Dou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rn February 1818 in Maryland &amp; di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20 189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fe Story: suffered in slavery with his mother, was educated &amp; attended Anti- Slavery Society, moved around a 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beliefs: “prejudice against color is against god” &amp; equality &amp; freed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: Anti- Slavery &amp; Women’s R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mplishments &amp; contributions:  wrot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Narrative on the Life of Frederick Douglass, An American Sla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1845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Bondage and My Freed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1855),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ife and Times of Frederick Douglass(18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&amp; abolitionist leader &amp; speaker @ Seneca Falls Convention, abolitionist newspaper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orth Sta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553080" y="1676520"/>
            <a:ext cx="2405160" cy="36115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  <p:sndAc>
      <p:stSnd>
        <p:snd r:embed="rId2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les Grandison Finne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xroads.virginia.edu/~Hyper/detoc/religion/finne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oberlin.edu/external/EOG/images/CharlesGrandisonFinne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http://my.hrw.com/tabnav/controller.jsp?isbn=00304116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lph Waldo Em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online-literature.com/emerson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y.hrw.com/tabnav/controller.jsp?isbn=00304116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izabeth Cady Stanton =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omenshistory.about.com/od/stantonelizabeth/a/stanton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riet Tub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ttp://www.harriettubmanbiography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ttp://my.hrw.com/tabnav/controller.jsp?isbn=00304116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ace 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my.hrw.com/tabnav/controller.jsp?isbn=00304116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nd.edu/~rbarger/www7/man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rothea Di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webster.edu/~woolflm/dorotheadi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ttp://my.hrw.com/tabnav/controller.jsp?isbn=00304116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ucretia M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omenshistory.about.com/od/suffragepre1848/p/lucretia_mot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bliography continue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lliam Lloyd Gar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ndb.com/people/966/000049819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ttp://www.encyclopedia.com/topic/William_Lloyd_Garrison.a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ttp://www.ohiohistorycentral.org/entry.php?rec=1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lliam McGuffe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ttp://www.answers.com/topic/william-holmes-mcguff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herine Bee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istory.sandiego.edu/gen/st/~myuen/catherinebeecher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ttp://freepages.history.rootsweb.ancestry.com/~dav4is/people/BEEC126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ttp://www.answers.com/topic/catharine-bee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 Tur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www.spartacus.schoolnet.co.uk/USASturner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ttp://my.hrw.com/tabnav/controller.jsp?isbn=00304116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drick Dougl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my.hrw.com/tabnav/controller.jsp?isbn=00304116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ttp://www.online-literature.com/frederick_douglas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curtains.jpg movie curtain image by sunjoolee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HALEY DOW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over dir="d"/>
    <p:sndAc>
      <p:stSnd>
        <p:snd r:embed="rId2" name="applause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Grandison Fin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orn on 1792 in Warren Connecticut, died in August of 18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ife story: studied law during the early 1800’s (btw. 1810-1820) and in 1821 had a conversion experience when he was saved. After which he became a preacher and wherever he traveled he set up religious revi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Key Beliefs: free will &amp; equality of men &amp; that god had led, taught and taught him the right way of leading 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volved In the Second Great Awak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Movements in The Burned- Over Distri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ntributions to movement: led revivals and led meetings to reawaken the religious feelings in oth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ccomplishments: hundreds of people embracing his teachings (thus religion) &amp; in 1837 he became the minister of the First Congregational Church in Ober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91320" y="1654200"/>
            <a:ext cx="2895480" cy="43876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out"/>
    <p:sndAc>
      <p:stSnd>
        <p:snd r:embed="rId2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lph Waldo Em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orn on May 25 1803 in Boston Massachusetts &amp; Died April 27 18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ife story: Father died when he was a child, enjoyed writing in journals, became well known writer &amp; speaker, contradictions w/ school &amp; religious beliefs, minister in Second Church of Boston, etc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writer &amp; po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Key beliefs: harmony in man and nature &amp; individual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Movement: Transcendentalist Movement ( believed in reason, spirituality, and instin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ntributions to movement: gave sermons, lectures, and expressed Transcendentalist belief to others &amp; wrote essays &amp; po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ccomplishments: America’s most famous &amp; important autho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3174840" cy="38102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hecker dir="horz"/>
    <p:sndAc>
      <p:stSnd>
        <p:snd r:embed="rId2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zabeth Cady Stan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orn November 12 1815 &amp; died October 26 19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Life Story ( in a nutshell)- married abolitionist Henry Stanton, set up meetings for Women’s Rights alongside  Lucretia Mott &amp; Susan B Anthony, focused on female suffrage and voting rights &amp; property rights for married wom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Key beliefs: women should have more &amp; equal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ovement: Women’s Rights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ccomplishments &amp; contributions to Movement: founded National Woman Suffrage Association (she was president) 1890, wrote </a:t>
            </a: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The Women’s Bible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amp;</a:t>
            </a: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 Eighty Years and More, &amp;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he won Property Rights for married women, equal guardianship of children, and liberalized divorce la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=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Elizabeth Cady Stanton "/>
          <p:cNvPicPr/>
          <p:nvPr/>
        </p:nvPicPr>
        <p:blipFill>
          <a:blip r:embed="rId1"/>
          <a:stretch/>
        </p:blipFill>
        <p:spPr>
          <a:xfrm>
            <a:off x="6400800" y="1600200"/>
            <a:ext cx="2465280" cy="3747960"/>
          </a:xfrm>
          <a:prstGeom prst="rect">
            <a:avLst/>
          </a:prstGeom>
          <a:ln w="0">
            <a:noFill/>
          </a:ln>
        </p:spPr>
      </p:pic>
    </p:spTree>
  </p:cSld>
  <p:transition advTm="8000">
    <p:checker dir="vert"/>
    <p:sndAc>
      <p:stSnd>
        <p:snd r:embed="rId2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iet Tub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orn on 1822 in Maryland &amp; died in 1913 =[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Life story: Born into slavery, escaped from slavery in 1849, suffered from a head injury, operated of Underground Railroad, spy &amp; nurse during then civil war, abolitionist, and humanitar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Key Beliefs: fighting for freedom, equality, and jus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ovement involved in: The Antislavery Movement (in the sou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ntributions &amp; accomplishments in movement: led the underground Railroad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saving hundreds of slaves &amp; giving directions to others to help them escape, nursed black soldiers and slaves in the union, first woman to command an armed military rai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3013200" cy="4525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  <p:sndAc>
      <p:stSnd>
        <p:snd r:embed="rId2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ace Ma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rn on 1796 in Massachuset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fe Story: first secretary of education in MA, funded common-schools where teachers would receive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Beliefs: states should fund and supervise local school systems, mandatory attend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 involved in: The Common- School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tions &amp; accomplishments: created country’s first normal school, passed compulsory attendance law, Father of American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943600" y="1676520"/>
            <a:ext cx="3003480" cy="38401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ircle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rthea Di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rn April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802 &amp; died 1887 on July 1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fe story: she lived in an unstable household as a child, taught children, loved to read &amp; write, after visiting a prison she did not like the living conditions and sought to change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Beliefs: mental illness wasn’t all incurable with the change of living conditions in prisons, despite their mental conditions improving living quality couldn’t hurt if not improve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 involved in: Prison re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tions &amp; accomplishments: founded 32 mental hospitals, 15 schools for the slower minded. A school for the blind, and many nursing schools, Superintendent of Union Army Nur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2743200" cy="36036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cretia Mo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rn on January 3 1793 &amp; died in November 11 18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fe story: She was a Quaker, Married James Mott, interested in Women’s Right, abolitionist, sheltered runaway sla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Beliefs: considered slavery evil &amp; wanted more rights for women, e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 involved in: Antislavery &amp; Women’s Righ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mplishment &amp; contributions: delegate to the World's Anti-Slavery Convention, elected first president of the American Equal Rights Con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870280" cy="3691080"/>
          </a:xfrm>
          <a:prstGeom prst="rect">
            <a:avLst/>
          </a:prstGeom>
          <a:ln w="0">
            <a:noFill/>
          </a:ln>
        </p:spPr>
      </p:pic>
    </p:spTree>
  </p:cSld>
  <p:transition advTm="8000">
    <p:blinds dir="horz"/>
    <p:sndAc>
      <p:stSnd>
        <p:snd r:embed="rId2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iam Lloyd Gar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rn on December 10 1805 &amp; died on May 24 18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fe story: enjoyed reading as a child, wrot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ra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3voted himself to abolish9ing sla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beliefs: non-violent approach, moral persua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 involved in: Anti- slavery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mplishments &amp; contributions: wrote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iberator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elped establish the American Anti-Slavery Society, helped established the Western Anti-Slavery Soci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629400" y="2209680"/>
            <a:ext cx="2230560" cy="3332160"/>
          </a:xfrm>
          <a:prstGeom prst="rect">
            <a:avLst/>
          </a:prstGeom>
          <a:ln w="0">
            <a:noFill/>
          </a:ln>
        </p:spPr>
      </p:pic>
    </p:spTree>
  </p:cSld>
  <p:transition advTm="8000">
    <p:zoom dir="in"/>
    <p:sndAc>
      <p:stSnd>
        <p:snd r:embed="rId2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06:30:55Z</dcterms:created>
  <dc:creator>Tyler</dc:creator>
  <dc:description/>
  <dc:language>en-US</dc:language>
  <cp:lastModifiedBy>Tyler</cp:lastModifiedBy>
  <dcterms:modified xsi:type="dcterms:W3CDTF">2010-02-22T05:41:47Z</dcterms:modified>
  <cp:revision>20</cp:revision>
  <dc:subject/>
  <dc:title>THE INDIVIDUALS OF THE REFORM ERA </dc:title>
</cp:coreProperties>
</file>